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DE7B-B709-4A17-A98A-DA25039A5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CB0C-9BEA-46B8-9DA1-D6B624C6D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C91C-7805-49DD-8A5C-2ED8331EB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29D-5FEB-433E-80CA-A81278E6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9BB-3EE9-4192-9827-E4D9A90D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40D-023F-4D2B-8EEF-D6A0FCA2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911-57A9-42E1-8980-DBA9E3E7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F3F5-3E11-47E3-B968-C9F4F16B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C287-8774-41FC-97D4-FAABB874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DE2D-B39F-429B-8E20-97108BD5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99FE-7C4D-4AC2-8731-DFD33D8E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7951-D7EB-4A92-A0B4-EF133F3F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9F29-EA32-4C7A-B865-6FB62F48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F3C0-1C09-405E-9CD3-453CF3EB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0391-DEB8-4578-960F-F07DFAFF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E021-A79E-419E-8E05-13FD5DDC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5BDF-2189-48B9-83EB-470BE60C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E519-7C5B-435D-96E4-948F5584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3AC6-E65A-44C5-A2FE-E511AEC2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A0F9-3A16-430A-B8D4-2EBB6283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B7178-2CF8-4D9C-A0CC-C861F0E1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6B7FF-F5FC-471D-8BF7-589C6ED1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1BFA5-5680-41EF-A3E2-FFC94D9F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B5217-0C50-431C-AB33-7EB72389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EF28C-04BD-4791-890C-56AC584B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186-08A0-4C90-8E5C-CC462CD9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B47C6-3178-4A37-9C29-1C39023E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0F344-431B-4851-B08A-1749BF04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40C6F-8016-4DFC-AD3C-5A4CF3B3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BE0B9-F9EC-4A36-90C1-1C8B057E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5071E-324F-4CF8-A89A-BC1719FE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3DB46-6B0B-43B1-9318-7AF52B0C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136C-239D-434E-BB5C-641CD651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A7AB3-AE57-41B4-9DCC-9C093895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455E6-B7D7-41F5-9A8B-4BD9B45B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2F53B-1C29-43F7-81E0-88119989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E2B-35B8-4C3D-A7A9-9955825C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31D80-ACCF-4493-A5C5-DB3C3777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293F2-8DA4-4E92-A789-F9C0643E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6FB94-5A8F-43EE-BC05-6BD639B3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A4855-4CE1-450A-901B-C9F0240A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0D44C-324E-4FFB-93EB-F042C963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D7831-959F-4422-AC1E-E629872A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7C50A-5F95-470B-BE2A-D629D948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E2E87-580A-4220-ADD0-B9CBBFFE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2625B-AD53-446E-9FEF-C4898C4D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253EC-D568-4D70-8500-D8E704B2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FC17-0D1C-40BE-A804-273F7903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384E4-1C07-43DA-ADD3-93C8F615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B647E-6AC6-4043-9490-1E3B8C25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E4E74-A74E-4AC3-AA9F-81C85C0A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9B9ED-96CE-48C2-A19F-063D0F5D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AC547-6747-43D3-BBAE-BEACD23B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8AE2C-6CCA-415A-89A0-2A0DAE46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F3F03-E9F2-4A2A-94E2-AEC7B6A9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25EF4-6830-4CEE-8806-9EB6C030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78965-5D05-48F7-8A21-5113923E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ED69A-8E72-4B9B-8DDF-0F6282B6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5D3-A913-4294-8D22-2F98BE05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A84FF-B0C6-4C8B-A5FD-AF7A5372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4EF4-B269-439F-A786-D2C70054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3FC6-01BC-4C5F-975C-7C987E82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1A2-7554-4DCA-B15A-C77D2DF9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EF15-F1CE-480F-ACDE-0704224DDE3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C8AE-33DC-4A29-8F3D-EDD407B2895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4AE0-1F88-44AE-B671-CEDF64DD7A8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8E67-CAA7-4352-85A6-32B8C533891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D43B-8E3B-42FA-B7CB-02698A62285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3"/>
          <p:cNvSpPr/>
          <p:nvPr/>
        </p:nvSpPr>
        <p:spPr>
          <a:xfrm>
            <a:off x="1357200" y="2000160"/>
            <a:ext cx="5929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1715"/>
                </a:solidFill>
                <a:latin typeface="Times New Roman"/>
              </a:rPr>
              <a:t>EXCURSIE T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Monotype Corsiva"/>
              </a:rPr>
              <a:t>Observatii asupra ecosistemului Padurii Ciornuleasa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1" i="1" lang="ro-RO" sz="2400" spc="-1" strike="noStrike">
                <a:solidFill>
                  <a:srgbClr val="000000"/>
                </a:solidFill>
                <a:latin typeface="Monotype Corsiva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o-RO" sz="2400" spc="-1" strike="noStrike">
                <a:solidFill>
                  <a:srgbClr val="000000"/>
                </a:solidFill>
                <a:latin typeface="Monotype Corsiva"/>
              </a:rPr>
              <a:t>noiembrie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IMG_0134.JPG"/>
          <p:cNvPicPr/>
          <p:nvPr/>
        </p:nvPicPr>
        <p:blipFill>
          <a:blip r:embed="rId1"/>
          <a:stretch/>
        </p:blipFill>
        <p:spPr>
          <a:xfrm>
            <a:off x="2771640" y="1844640"/>
            <a:ext cx="4573800" cy="34308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4"/>
          <p:cNvSpPr/>
          <p:nvPr/>
        </p:nvSpPr>
        <p:spPr>
          <a:xfrm>
            <a:off x="889200" y="785880"/>
            <a:ext cx="59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nvatarea unei orientari corecte in padu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urmarind muschii copac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7" descr="PowerPoint3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642960" y="1643040"/>
            <a:ext cx="7929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7422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7422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7422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422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00000"/>
                </a:solidFill>
                <a:latin typeface="Franklin Gothic Book"/>
              </a:rPr>
              <a:t>EVALUA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1310400" y="2500200"/>
            <a:ext cx="72835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ixarea cunostintelor prin completarea fisei de luc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eedback realizat prin interv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otograf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olectarea de materiale (frunze, licheni, ghinde etc) neces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olosirii lor in cadrul orelor de biologie, educatie pla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naliza temperaturii aerului, solului, pe baza valorilor obt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PowerPoint3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642960" y="1643040"/>
            <a:ext cx="7929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7422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7422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7422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422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00000"/>
                </a:solidFill>
                <a:latin typeface="Franklin Gothic Book"/>
              </a:rPr>
              <a:t>CONCLUZIE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642960" y="1643040"/>
            <a:ext cx="7929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7422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742217"/>
                </a:solidFill>
                <a:latin typeface="Monotype Corsiva"/>
              </a:rPr>
              <a:t>  </a:t>
            </a:r>
            <a:r>
              <a:rPr b="1" lang="ro-RO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Varietatea plantelor si a arborilor, frumusetea peisajului, cantecele pasarilor i-au facut pe copii sa realizeze minunile vietii si puterea naturii. Momentele  placute traite in padure i-au impulsionat sa revina si primavara pentru a planta puie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422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......</a:t>
            </a:r>
            <a:r>
              <a:rPr b="1" i="1" lang="ro-RO" sz="2600" spc="-1" strike="noStrike">
                <a:solidFill>
                  <a:srgbClr val="000000"/>
                </a:solidFill>
                <a:latin typeface="Perpetua"/>
              </a:rPr>
              <a:t>Calde multumiri domnului ing. silvic Gabriel Ionescu, pentru ajutorul acordat in realizarea acestei aplicatii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IMG_0147.JPG"/>
          <p:cNvPicPr/>
          <p:nvPr/>
        </p:nvPicPr>
        <p:blipFill>
          <a:blip r:embed="rId1"/>
          <a:stretch/>
        </p:blipFill>
        <p:spPr>
          <a:xfrm>
            <a:off x="539640" y="981000"/>
            <a:ext cx="6851880" cy="51386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4"/>
          <p:cNvSpPr/>
          <p:nvPr/>
        </p:nvSpPr>
        <p:spPr>
          <a:xfrm>
            <a:off x="6215040" y="642960"/>
            <a:ext cx="242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levi particip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Franklin Gothic Book"/>
              </a:rPr>
              <a:t>Cadre</a:t>
            </a:r>
            <a:r>
              <a:rPr b="1" lang="ro-RO" sz="36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Franklin Gothic Book"/>
              </a:rPr>
              <a:t>didactice</a:t>
            </a:r>
            <a:r>
              <a:rPr b="1" lang="ro-RO" sz="36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Franklin Gothic Book"/>
              </a:rPr>
              <a:t>insotitoare: 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16426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855d5d"/>
                </a:solidFill>
                <a:latin typeface="Perpetua"/>
              </a:rPr>
              <a:t> </a:t>
            </a:r>
            <a:r>
              <a:rPr b="1" i="1" lang="en-US" sz="2600" spc="-1" strike="noStrike">
                <a:solidFill>
                  <a:srgbClr val="742217"/>
                </a:solidFill>
                <a:latin typeface="Monotype Corsiva"/>
              </a:rPr>
              <a:t>Dir. Adj. Prof. Geta Tudor</a:t>
            </a:r>
            <a:r>
              <a:rPr b="1" i="1" lang="ro-RO" sz="2600" spc="-1" strike="noStrike">
                <a:solidFill>
                  <a:srgbClr val="742217"/>
                </a:solidFill>
                <a:latin typeface="Monotype Corsiv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742217"/>
                </a:solidFill>
                <a:latin typeface="Monotype Corsiva"/>
              </a:rPr>
              <a:t> </a:t>
            </a:r>
            <a:r>
              <a:rPr b="1" i="1" lang="en-US" sz="2600" spc="-1" strike="noStrike">
                <a:solidFill>
                  <a:srgbClr val="742217"/>
                </a:solidFill>
                <a:latin typeface="Monotype Corsiva"/>
              </a:rPr>
              <a:t>Prof. Elena Joit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742217"/>
                </a:solidFill>
                <a:latin typeface="Monotype Corsiva"/>
              </a:rPr>
              <a:t> </a:t>
            </a:r>
            <a:r>
              <a:rPr b="1" i="1" lang="en-US" sz="2600" spc="-1" strike="noStrike">
                <a:solidFill>
                  <a:srgbClr val="742217"/>
                </a:solidFill>
                <a:latin typeface="Monotype Corsiva"/>
              </a:rPr>
              <a:t>Prof. Iulia Kurt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742217"/>
                </a:solidFill>
                <a:latin typeface="Monotype Corsiva"/>
              </a:rPr>
              <a:t> </a:t>
            </a:r>
            <a:r>
              <a:rPr b="1" i="1" lang="en-US" sz="2600" spc="-1" strike="noStrike">
                <a:solidFill>
                  <a:srgbClr val="742217"/>
                </a:solidFill>
                <a:latin typeface="Monotype Corsiva"/>
              </a:rPr>
              <a:t>Prof. Cristinel And</a:t>
            </a:r>
            <a:r>
              <a:rPr b="1" i="1" lang="ro-RO" sz="2600" spc="-1" strike="noStrike">
                <a:solidFill>
                  <a:srgbClr val="742217"/>
                </a:solidFill>
                <a:latin typeface="Monotype Corsiva"/>
              </a:rPr>
              <a:t>o</a:t>
            </a:r>
            <a:r>
              <a:rPr b="1" i="1" lang="en-US" sz="2600" spc="-1" strike="noStrike">
                <a:solidFill>
                  <a:srgbClr val="742217"/>
                </a:solidFill>
                <a:latin typeface="Monotype Corsiva"/>
              </a:rPr>
              <a:t>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742217"/>
                </a:solidFill>
                <a:latin typeface="Monotype Corsiva"/>
              </a:rPr>
              <a:t>Prof. Mihaela Mladenovic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742217"/>
                </a:solidFill>
                <a:latin typeface="Monotype Corsiva"/>
              </a:rPr>
              <a:t>Prof. Sibel Hirsal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742217"/>
                </a:solidFill>
                <a:latin typeface="Monotype Corsiva"/>
              </a:rPr>
              <a:t>Prof. Oroles Florescu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742217"/>
                </a:solidFill>
                <a:latin typeface="Monotype Corsiva"/>
              </a:rPr>
              <a:t>Inv. Emilia Constant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00000"/>
                </a:solidFill>
                <a:latin typeface="Franklin Gothic Book"/>
              </a:rPr>
              <a:t>Scopul excursie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bilizarea dascălilor să desfăşoare lecţii în pădur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ştientizarea elevilor despre îndatoririle pe care le au faţă de natură şi societate, în contextul dezvoltării durabil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96464"/>
                </a:solidFill>
                <a:latin typeface="Franklin Gothic Book"/>
              </a:rPr>
              <a:t>Obiectiv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52240b"/>
                </a:solidFill>
                <a:latin typeface="Perpetua"/>
              </a:rPr>
              <a:t>Înţelegerea de către elevi a valorii pădurii pentru fiecare dintre ei, din punct de vedere al educaţiei ecologice, din punct de vedere economic, recreativ şi afectiv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52240b"/>
                </a:solidFill>
                <a:latin typeface="Perpetua"/>
              </a:rPr>
              <a:t>R</a:t>
            </a:r>
            <a:r>
              <a:rPr b="0" lang="pt-PT" sz="2600" spc="-1" strike="noStrike">
                <a:solidFill>
                  <a:srgbClr val="52240b"/>
                </a:solidFill>
                <a:latin typeface="Perpetua"/>
              </a:rPr>
              <a:t>esponsabilizarea copiilor şi cultivarea unei conştiinţe ecologice atât de necesară astăzi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IMG_0110.JPG"/>
          <p:cNvPicPr/>
          <p:nvPr/>
        </p:nvPicPr>
        <p:blipFill>
          <a:blip r:embed="rId1"/>
          <a:stretch/>
        </p:blipFill>
        <p:spPr>
          <a:xfrm>
            <a:off x="1258920" y="907920"/>
            <a:ext cx="6856560" cy="514188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601920" y="428760"/>
            <a:ext cx="52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ntelegerea conceptului de ecosi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IMG_0105.JPG"/>
          <p:cNvPicPr/>
          <p:nvPr/>
        </p:nvPicPr>
        <p:blipFill>
          <a:blip r:embed="rId1"/>
          <a:stretch/>
        </p:blipFill>
        <p:spPr>
          <a:xfrm>
            <a:off x="1403280" y="1125360"/>
            <a:ext cx="6856560" cy="51422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1692360" y="404640"/>
            <a:ext cx="56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ecunoasterea speciilor de insecte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IMG_0123.JPG"/>
          <p:cNvPicPr/>
          <p:nvPr/>
        </p:nvPicPr>
        <p:blipFill>
          <a:blip r:embed="rId1"/>
          <a:stretch/>
        </p:blipFill>
        <p:spPr>
          <a:xfrm>
            <a:off x="3059280" y="1916280"/>
            <a:ext cx="4033800" cy="35017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4"/>
          <p:cNvSpPr/>
          <p:nvPr/>
        </p:nvSpPr>
        <p:spPr>
          <a:xfrm>
            <a:off x="1071720" y="5716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bservarea cuiburi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pasari si intelegerea rolului aces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IMG_0141.JPG"/>
          <p:cNvPicPr/>
          <p:nvPr/>
        </p:nvPicPr>
        <p:blipFill>
          <a:blip r:embed="rId1"/>
          <a:stretch/>
        </p:blipFill>
        <p:spPr>
          <a:xfrm>
            <a:off x="3564000" y="1700280"/>
            <a:ext cx="4573440" cy="34304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5"/>
          <p:cNvSpPr/>
          <p:nvPr/>
        </p:nvSpPr>
        <p:spPr>
          <a:xfrm>
            <a:off x="755640" y="476280"/>
            <a:ext cx="75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entionarea modului de hran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 animalelor, in timpul iern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4:36:01Z</dcterms:created>
  <dc:creator>Bogdan Joita</dc:creator>
  <dc:description/>
  <dc:language>en-US</dc:language>
  <cp:lastModifiedBy>danut</cp:lastModifiedBy>
  <dcterms:modified xsi:type="dcterms:W3CDTF">2009-11-25T04:28:55Z</dcterms:modified>
  <cp:revision>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795041033</vt:lpwstr>
  </property>
</Properties>
</file>